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96794"/>
        <c:axId val="46224329"/>
      </c:barChart>
      <c:catAx>
        <c:axId val="56996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4329"/>
        <c:crosses val="autoZero"/>
        <c:auto val="1"/>
        <c:lblAlgn val="ctr"/>
        <c:lblOffset val="100"/>
        <c:noMultiLvlLbl val="0"/>
      </c:catAx>
      <c:valAx>
        <c:axId val="46224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96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9DA-3AB5-458A-A932-B7B6A8D7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16B-4BFA-4AE4-9E07-B56F055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476-A2EB-4D3E-92E8-345105E8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38F-7119-4EE8-8995-328196A8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468-498C-434F-A32D-7BC9C8E8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9E0-C9E5-4164-8F69-50C072F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C0B-B36C-4661-BE2D-1F642B0C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09A-1C48-450B-9479-C154FFE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9DF-5291-45F8-BB77-8B1F1FF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95E-30FD-4978-BCDA-B540A9B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D74-51B0-48ED-82DE-1E6C93E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B88-B777-414C-9E38-4811435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B77A9-7E62-4398-9269-B0A7FA5B8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